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4.png" ContentType="image/png"/>
  <Override PartName="/ppt/media/image17.wmf" ContentType="image/x-wmf"/>
  <Override PartName="/ppt/media/image35.png" ContentType="image/png"/>
  <Override PartName="/ppt/media/image12.png" ContentType="image/png"/>
  <Override PartName="/ppt/media/image36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20.png" ContentType="image/png"/>
  <Override PartName="/ppt/media/image21.wmf" ContentType="image/x-wmf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16C-9D2A-49CF-9722-5A684379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669-0CD5-47F7-8B1F-1488C5C0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C30-D635-4A69-91F6-055217EA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B95-8666-47FF-BEC2-CCCB9F69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919-2F6D-47EC-945C-3DD1A7CA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1C4-4BD7-4503-9871-F4CC43E4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BBF-6F9C-48E1-9683-2E96C054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944-BBD5-4C01-BD85-2CE3E3DF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9FF-C89A-457F-8879-2268ABD3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5D1-10BB-4D92-BCAE-0FC881FB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212-0A4D-4AD0-8FE3-3DCFACF8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7E6-F5F4-4A13-A962-21205649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C1B3-8FC5-4CC5-B6BA-50608866B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easures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f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Disease Frequency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12560" y="3962520"/>
            <a:ext cx="452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ates, Ratios, and Propo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idence versus Preva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 versus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/Rat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ouse Gues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24640" cy="3581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73440" y="5450040"/>
            <a:ext cx="667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uests arrive 2 per day and stay 5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many guests in the house after a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swer: 10 (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P=1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I=2, </a:t>
            </a: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D=5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obability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at an individual with certain characteristic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Smoking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ill experience a health status change over a specified follow-up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cc33"/>
                </a:solidFill>
                <a:uFillTx/>
                <a:latin typeface="Arial"/>
              </a:rPr>
              <a:t>Assumes:</a:t>
            </a: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Does not have disease at start of follow-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Does not die from other cause during follow-up</a:t>
            </a:r>
            <a:r>
              <a:rPr b="1" lang="en-US" sz="2600" spc="-1" strike="noStrike">
                <a:solidFill>
                  <a:srgbClr val="ff505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 ≤ RISK≤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% ≤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rcentag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≤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risk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10-year risk that a 45-year-old male will develop prostate cancer is 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 = # of new cases during follow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 = # of disease-free subjects at start of follow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asures the frequency of addition of new cases of  disease and is always calculated for a given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51460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5189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859360" y="394128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14758" r="0" b="0"/>
          <a:stretch/>
        </p:blipFill>
        <p:spPr>
          <a:xfrm>
            <a:off x="685800" y="1295280"/>
            <a:ext cx="7772400" cy="3364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4648320"/>
            <a:ext cx="7772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st common way to estimate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lways a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ssumes a fixed co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 brief specified periods of time, e.g. an outbreak, commonly called an Attack “R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ware of at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mula does not reflect continually changing population size for dynamic coh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es not allow subjects to be followed for different time peri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30162" r="0" b="0"/>
          <a:stretch/>
        </p:blipFill>
        <p:spPr>
          <a:xfrm>
            <a:off x="1143000" y="2438280"/>
            <a:ext cx="7086600" cy="335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0" t="0" r="0" b="80021"/>
          <a:stretch/>
        </p:blipFill>
        <p:spPr>
          <a:xfrm>
            <a:off x="1143000" y="1371600"/>
            <a:ext cx="708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28584" r="0" b="0"/>
          <a:stretch/>
        </p:blipFill>
        <p:spPr>
          <a:xfrm>
            <a:off x="609480" y="1981080"/>
            <a:ext cx="8001000" cy="3810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0" r="0" b="80021"/>
          <a:stretch/>
        </p:blipFill>
        <p:spPr>
          <a:xfrm>
            <a:off x="609480" y="914400"/>
            <a:ext cx="8001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23948" r="0" b="0"/>
          <a:stretch/>
        </p:blipFill>
        <p:spPr>
          <a:xfrm>
            <a:off x="762120" y="2057400"/>
            <a:ext cx="754380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0" r="0" b="80021"/>
          <a:stretch/>
        </p:blipFill>
        <p:spPr>
          <a:xfrm>
            <a:off x="762120" y="990720"/>
            <a:ext cx="7543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R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scribes how rapidly health events are occurring in a population of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Epidemiologic studies, we typically measure the average rate at which a disease is occurring over a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 new cases per 10,000 person-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Interpret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 average of 50 cases occurs for every 10,000 years of disease free follow-up time observed on a cohort of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ypothetical data on the frequency of hepatitis in two 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3317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ocation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New cases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Year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A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58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B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3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2001-200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7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ich of these describes a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 new cases per 100 person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0 miles per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 new cases out of 100 disease-free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0 new murder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0 deaths out of 200 lung cance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cidenc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 = # of new cases during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T = total time that disease–free individuals in the cohort are observed over the study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Synonym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hazard rate, incidence density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asures the rapidity with which new cases are occurring in 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81952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ample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ypothetical cohort of 12 initially disease-free subjects followed over a 5-year period from 1990 to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udy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s the value of 0.20 a propor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oes the value of 0.20 represent the risk of developing dise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25156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arkinson’s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467480" cy="302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467480" cy="885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990720" y="5105520"/>
            <a:ext cx="7467480" cy="696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66680" y="4267080"/>
            <a:ext cx="3048120" cy="838440"/>
          </a:xfrm>
          <a:prstGeom prst="rect">
            <a:avLst/>
          </a:prstGeom>
          <a:solidFill>
            <a:srgbClr val="fffff7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fusing Risk with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term “Rate” is often been used incorrectly to describe a measure of ri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e.g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Attack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Case-Fatality Rat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en reading Epidemiologic literature, one should be careful to determine the actual measure being repo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easures existing cases of a health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imary feature of a cross-sectional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wo types of Pre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Point pre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Period pre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oint 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 = # of observed cases at tim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 = Population size at tim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asures the frequency of disease at a given point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00400" y="1295280"/>
            <a:ext cx="22860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oint Prevalence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ppose there are 150 individuals in a population and, on a certain day, 15 are ill with the flu.  What is the estimated prevalence for this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3526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tudy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s point prevalence a propor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pose 13 people from a population of size 406,245 had a particular disease at time t.  What is the point prevalence of this disease at time 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ich of the following expressions is equivalent to the point prevalence estimate of 0.00003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2 per 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2 per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2 per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ypothetical data on the frequency of hepatitis in two 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ocation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New cases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Year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A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58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B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3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2001-200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7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nual rate of occurrence of hepatit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A:  58 / 25,000 / 1 year =  232/10</a:t>
            </a:r>
            <a:r>
              <a:rPr b="1" lang="en-US" sz="2800" spc="-1" strike="noStrike" baseline="34000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/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B:  35 / 7000 / 2 years = 17.5 / 7000 / 1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 250/10</a:t>
            </a:r>
            <a:r>
              <a:rPr b="1" lang="en-US" sz="2800" spc="-1" strike="noStrike" baseline="34000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/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seful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ssessing the health status of a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lanning health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t Useful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entifying risk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eriod 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 = the # of prevalent cases at the beginning of the time peri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 = the # of incident cases that develop during th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 = size of the population for this same time peri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35816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pose we followed a population of 150 persons for one year, and 25 had a disease of interest at the start of follow-up and another 15 new cases developed during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at is the period prevalence for the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    What is the point prevalence at the start of the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)    What is the cumulative incidence for the one year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pose we followed a population of 150 persons for one year, and 25 had a disease of interest at the start of follow-up and another 15 new cases developed during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at is the period prevalence for the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P = (25 + 15) / 150 = 0.27 or 2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  What is the point prevalence at the start of the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 = 25/150 = 0.17 = 1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)  What is the cumulative incidence for the one year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I = 15/125 = 0.12 =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ortality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ease-Specific Mortality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l-causes Mortality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se-Fatality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00400" y="3581280"/>
            <a:ext cx="26668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ortality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ease-Specific Mortality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l-causes Mortality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se-Fatality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00400" y="3657600"/>
            <a:ext cx="25146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7440" y="1676520"/>
            <a:ext cx="43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Adjust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68580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0" r="0" b="16923"/>
          <a:stretch/>
        </p:blipFill>
        <p:spPr>
          <a:xfrm>
            <a:off x="533520" y="45720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239240" cy="3962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239240" cy="1143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58000" y="1752480"/>
            <a:ext cx="1447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ates, Ratios,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general classes of mathematical para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ten used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relat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number of ca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disease or health outcome to the size of the source popul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which they occur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0" t="0" r="0" b="14082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705720" y="5715000"/>
            <a:ext cx="16761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14400" y="5715000"/>
            <a:ext cx="74674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3505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4678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620120" cy="3353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620120" cy="990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705720" y="1828800"/>
            <a:ext cx="1752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0" r="0" b="20528"/>
          <a:stretch/>
        </p:blipFill>
        <p:spPr>
          <a:xfrm>
            <a:off x="76212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76212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76212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39642" r="0" b="17499"/>
          <a:stretch/>
        </p:blipFill>
        <p:spPr>
          <a:xfrm>
            <a:off x="1371600" y="1295280"/>
            <a:ext cx="6324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73152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39642" r="0" b="17499"/>
          <a:stretch/>
        </p:blipFill>
        <p:spPr>
          <a:xfrm>
            <a:off x="762120" y="914400"/>
            <a:ext cx="75438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0" r="0" b="19752"/>
          <a:stretch/>
        </p:blipFill>
        <p:spPr>
          <a:xfrm>
            <a:off x="685800" y="304920"/>
            <a:ext cx="79246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btained by dividing one quantity by another.  These quantities may be related or may be totally in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sually expressed as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umber of stillbirths per thousand live bir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eneral term that includes Rates and Propor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743200" y="4343400"/>
            <a:ext cx="2514600" cy="83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267080" y="2438280"/>
            <a:ext cx="114300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 ratio in which the numerator is included in the denomin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pressed a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ere, 1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s often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number of fetal deaths out of the total number of bir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swer often read as a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4038480" cy="95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219320" cy="1087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419112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 measure of how quickly something of interest happe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number of new cases of Parkinson’s disease which develops per 1,000 person-years of follow-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ime, place and population must be specified for each type of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6248160" cy="874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352680" y="2286000"/>
            <a:ext cx="114300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easures of Disease Frequ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Arial"/>
              </a:rPr>
              <a:t>Incidence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(I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asur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Arial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ases of a disease that develop over a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9900"/>
                </a:solidFill>
                <a:uFillTx/>
                <a:latin typeface="Arial"/>
              </a:rPr>
              <a:t>Prevalence</a:t>
            </a: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 (P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asur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669900"/>
                </a:solidFill>
                <a:uFillTx/>
                <a:latin typeface="Arial"/>
              </a:rPr>
              <a:t>exis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ases of a disease at a particular point in time or over a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evalence vs.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4111" t="15269" r="7598" b="31662"/>
          <a:stretch/>
        </p:blipFill>
        <p:spPr>
          <a:xfrm>
            <a:off x="2362320" y="1295280"/>
            <a:ext cx="449568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reval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n be viewed as describing a pool of disease in a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Inci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scribes the input flow of new cases into the 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atality and recovery reflects the output flow from the po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5-01-10T19:55:51Z</dcterms:modified>
  <cp:revision>1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  <property fmtid="{D5CDD505-2E9C-101B-9397-08002B2CF9AE}" pid="6" name="_ReviewingToolsShownOnce">
    <vt:lpwstr/>
  </property>
</Properties>
</file>